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E2D-6B22-4D2D-A30B-6AF232E8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72F-76BF-4597-8089-6D3836D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64E-FEEF-49D9-AA09-C1C1EF6A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E1E-5867-43C4-B83D-6D115ADD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1F7-E361-4EA4-8953-9C27A4E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D62-1A7E-4B8E-B5C5-372E2BAF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D981-EAB1-4B27-8EFE-0D0FDDF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2791-A3E9-4C60-BAE5-50BD717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FCCA-8134-4EAE-9184-E1D31AAD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C382-F4CE-439A-AE5E-B9B7D60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B10-C234-44F8-AFE3-8877523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836-DF2F-4008-AF43-C851E4F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06D9-855B-46E1-B533-7373A9E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E3A-F8ED-4076-896C-6372833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A14-4E8F-4478-8821-6D2D84C3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36F-0FCC-40C9-98D5-06A0EB0C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E97C-1670-46BB-8E6B-4422CB95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46E-5832-476B-9ABC-A4AB2D0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F96-61CC-4BA8-82DD-3FF15FB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889-F7F7-4B8B-B441-2BC77E2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909-396B-415C-A93B-F784507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4E6-0202-43FA-9591-5551CA3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C58-D162-4A44-8DDF-52B15A0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9CC-8E5B-42F1-9CFA-8693310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3F38-5A97-4605-8045-3F7576D106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A91-DBBF-4601-A732-F78197A96B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meracy with Esther H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experience on a post-it along with your name and school and 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ish Rathm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nice Sauv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atalie L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hoto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Helen H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ry Anne Doo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ren Ra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anne Ke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sh Rathm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ice Sauv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en H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y Anne Doo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ren Ra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anne Ke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alie L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2T02:44:51Z</dcterms:modified>
  <cp:revision>55</cp:revision>
  <dc:subject/>
  <dc:title>Enhancing literacy and numeracy outcomes through eLearning</dc:title>
</cp:coreProperties>
</file>